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913-0726-4ADF-9B8F-E045F2D6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02E-F212-493B-88D8-0DD16946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38A-5E0F-425C-AE49-E03895C4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A32-4F66-4602-AFCF-581D04FD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5F1-F323-4BEF-84F4-F9DD0538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FDE-31AC-4494-B6C9-969F950E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A94-262A-4F1A-81F0-12B0999D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BD6-4C38-439F-A1F4-46E77DAE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BCB-47F1-44CC-B658-6E5D4004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875-7E26-4270-8BAE-6A527CEF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92B-CC0C-46E9-88C7-0045DAFF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CC2-CB6C-4929-AC94-317EDC7D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E16E-57E1-4B28-9708-F60A48417A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24000" y="171288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1158840" y="2494080"/>
            <a:ext cx="8229600" cy="6458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066680" y="3103560"/>
            <a:ext cx="8229600" cy="6508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987480" y="3754440"/>
            <a:ext cx="822960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20880" y="4443480"/>
            <a:ext cx="82296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"/>
          <p:cNvPicPr/>
          <p:nvPr/>
        </p:nvPicPr>
        <p:blipFill>
          <a:blip r:embed="rId1"/>
          <a:stretch/>
        </p:blipFill>
        <p:spPr>
          <a:xfrm>
            <a:off x="933480" y="5370480"/>
            <a:ext cx="8051760" cy="3970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901800" y="5035680"/>
            <a:ext cx="8059680" cy="4014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3"/>
          <a:stretch/>
        </p:blipFill>
        <p:spPr>
          <a:xfrm>
            <a:off x="341280" y="1785960"/>
            <a:ext cx="8193240" cy="8906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907920" y="4614840"/>
            <a:ext cx="8060040" cy="4636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920880" y="2951280"/>
            <a:ext cx="8057880" cy="4014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7"/>
          <a:stretch/>
        </p:blipFill>
        <p:spPr>
          <a:xfrm>
            <a:off x="920880" y="4224240"/>
            <a:ext cx="805176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8"/>
          <a:stretch/>
        </p:blipFill>
        <p:spPr>
          <a:xfrm>
            <a:off x="890640" y="2646360"/>
            <a:ext cx="8051760" cy="40176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7" descr=""/>
          <p:cNvPicPr/>
          <p:nvPr/>
        </p:nvPicPr>
        <p:blipFill>
          <a:blip r:embed="rId9"/>
          <a:stretch/>
        </p:blipFill>
        <p:spPr>
          <a:xfrm>
            <a:off x="6224760" y="1841400"/>
            <a:ext cx="2315880" cy="252900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5" descr=""/>
          <p:cNvPicPr/>
          <p:nvPr/>
        </p:nvPicPr>
        <p:blipFill>
          <a:blip r:embed="rId10"/>
          <a:stretch/>
        </p:blipFill>
        <p:spPr>
          <a:xfrm>
            <a:off x="6066000" y="4889520"/>
            <a:ext cx="246204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1"/>
          <a:stretch/>
        </p:blipFill>
        <p:spPr>
          <a:xfrm>
            <a:off x="743040" y="3413160"/>
            <a:ext cx="819288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2"/>
          <a:stretch/>
        </p:blipFill>
        <p:spPr>
          <a:xfrm>
            <a:off x="878040" y="5827680"/>
            <a:ext cx="805788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32:10Z</dcterms:created>
  <dc:creator/>
  <dc:description/>
  <dc:language>en-US</dc:language>
  <cp:lastModifiedBy/>
  <dcterms:modified xsi:type="dcterms:W3CDTF">2011-12-08T11:32:18Z</dcterms:modified>
  <cp:revision>1</cp:revision>
  <dc:subject/>
  <dc:title/>
</cp:coreProperties>
</file>